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88B-CAF0-42CB-8B1A-B4AEABCD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9DB-A690-4188-B1D0-5F7F5BBE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FB97-3B03-4F36-A430-E171826A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B45-205B-4FF2-9AC0-69FAF24A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6EB-111E-4963-A839-6AB7EE0C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B8F-96D3-49C6-A50C-521DFB07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E48-8D44-455F-A64B-41A6BDB7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4D4E-C2E5-4017-8959-F4A70371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A4B-BB68-4260-8671-62FBDDEE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4CD-C6F3-4EB9-9228-C3DD4090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202-CF34-4224-BB8E-58976D4E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CF0-F206-43AD-B232-68AEFD03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B0FE-3EBE-433D-99BC-8D39AE5AAEF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2360" y="1773360"/>
            <a:ext cx="864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رتفع أبصارهم دون أن تطر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سر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363600" y="1052640"/>
            <a:ext cx="8529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324000" y="479736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تكلم عن الكافري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3"/>
          <a:stretch/>
        </p:blipFill>
        <p:spPr>
          <a:xfrm>
            <a:off x="4103640" y="1052640"/>
            <a:ext cx="47894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4"/>
          <a:stretch/>
        </p:blipFill>
        <p:spPr>
          <a:xfrm>
            <a:off x="2262240" y="2492280"/>
            <a:ext cx="664056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"/>
          <p:cNvPicPr/>
          <p:nvPr/>
        </p:nvPicPr>
        <p:blipFill>
          <a:blip r:embed="rId5"/>
          <a:stretch/>
        </p:blipFill>
        <p:spPr>
          <a:xfrm>
            <a:off x="1487520" y="4076640"/>
            <a:ext cx="7415280" cy="5842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141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له ليمهل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324000" y="1700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رف العبادة لغير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205000"/>
            <a:ext cx="86025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884320" y="4819680"/>
            <a:ext cx="35179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1020600"/>
            <a:ext cx="881712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13800" cy="45352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71520" y="413064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61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3"/>
          <a:stretch/>
        </p:blipFill>
        <p:spPr>
          <a:xfrm>
            <a:off x="-15840" y="981000"/>
            <a:ext cx="9105840" cy="935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6480" y="1179360"/>
            <a:ext cx="37018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عاقبة الكافرين المكذبين يوم القيا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653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لوبهم خالية من العقل لفزع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626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لفتم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1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وف الكف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ظ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قبة الظالم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92280"/>
            <a:ext cx="8666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عا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لا تخفى عليه خافية غير غافل عن أعماله عباده بل يعلمها ويحصيها عليهم ويحاسبهم عليها يوم القيا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3357720"/>
            <a:ext cx="866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يوم القيامة على الكافرين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دة يوم القيامة عليهم وما سيكونون عليه من الذلة والصغ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203720"/>
            <a:ext cx="86662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الكافرين المكذبي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دم حتى إنهم يتمنون العودة إلى الدنيا مرة أخرى ليؤمنوا وما هم ب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9068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ر الكافرين و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ظيم حتى إنه من شدته وخبثه يكاد يزيل الجبال عن أماكن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9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بط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ر الكافرين مهما خفي وأُحك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04840" y="170028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أنهم حلفوا في الدنيا أنه لا بعث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أنهم سكنوا مساك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ه عرفوا ماذا فعل الله ب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ذكر الله لهم الأمثال ولم يأخذوا منها ال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3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2360" y="1844640"/>
            <a:ext cx="8640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نذار والتبش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392040" y="1039680"/>
            <a:ext cx="856296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8T09:00:33Z</dcterms:modified>
  <cp:revision>1865</cp:revision>
  <dc:subject/>
  <dc:title>عرض تقديمي في PowerPoint</dc:title>
</cp:coreProperties>
</file>